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BA9-CCB1-42BE-B967-6B1BF68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AB2-C343-4AB8-A460-14BDC5A3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A6C-F54D-4963-97F7-B7E6115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DE2-80E2-4BBD-B2C0-BD4CC6AB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100-3C5F-4D10-9653-E883B951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F77-D42E-4F72-A077-B3E1724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351-A82C-47A9-A365-049776B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5D52-52AD-41FD-9BB1-0D4BFF6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DF6-E2B1-4617-9C70-2D3DC70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5279-8DC9-4D0C-B326-E5E87A0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35B-3D94-4E6D-AFC6-BF1C729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866-D971-42CA-9CD4-F49D718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734-2ABF-468E-BC92-5713D8B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E120-9252-455B-B5CF-11B874B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1B95-C0A4-4516-A074-9DBB7A7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E67-A891-4B0E-8567-D91470AC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780F-94A5-488C-89CF-DECE3B68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0EA-0832-47AA-BBF3-BE473E8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931-9356-4AF6-A792-622E316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7C3-3F7E-4906-B541-C90D831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2F1-8F33-4D65-B3E2-DEC0C61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01B-A60B-4A83-BD4A-802FCD7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AE3-C7E1-4323-AE85-3077CD8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C56-DDB2-4626-96AE-308E8E2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58410C-D035-439D-B663-774F553D8F2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D3533C-707F-4408-9278-62FBBE326A8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GDSII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180960" cy="4704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068000" y="1340640"/>
            <a:ext cx="4733640" cy="46954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953-3B52-4DF5-9178-3C6B26C005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ngs To Do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apt memories to the 90nm technology and import them to the Milkyway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ceed with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1749-AE4F-45B4-9BA5-2CB2B23AC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3775-D444-4900-9BEB-1A82F7954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133D-A53B-4E5F-9643-3C6BB776A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8E2-F831-4F23-925B-AE4B724FF2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F9B-DDA2-4183-8E45-E1AE7057C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1 – Find memory instances from existing designs – OpenSPARC, ChipTop, Leon, and memories from SAED_EDK90n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memory instances from these existing designs do not match the memories used in FabScalar cores, which are mostly multi-ported memor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2 – Use memory blocks generated from the FabMem too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uses the FreePDK 45nm library which does not match the 90nm technology library us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very difficult to change the FreePDK 45nm library to 90nm technology library in FabM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3 – Change to the FreePDK 45nm library for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ynthesis could be done using FreePDK. But the FreePDK 45nm library could not be utiliz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06D-65B9-4144-8C9E-135D803DFA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4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9CB-C699-4A25-99E9-CCB73F359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ilkyway Environment is a standalone tool for preparing physical libraries from the layout data provided by an outside sour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43640" y="2565000"/>
            <a:ext cx="7056360" cy="3705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4E0-C0EA-4CB0-AB91-4B4CDFA2E2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675-0011-4811-90DC-66AAF830D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764</TotalTime>
  <Application>LibreOffice/7.4.7.2$Linux_X86_64 LibreOffice_project/40$Build-2</Application>
  <AppVersion>15.0000</AppVersion>
  <Words>546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4-17T14:54:23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